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BE5A-B116-4663-BBDA-84F242D1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9CF3-3B4C-4BB1-84C1-2EC959D06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9AE-7E36-4C42-AEB5-B2E2AA72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113-9D2D-4836-A061-52022ED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A6B-701B-41AC-AB81-5414C842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9FC-D519-4A48-80B5-2EE41F40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03A-D1CE-4491-819B-767B6CB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26F-3FA8-4266-93C8-8C1CBDB7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001-4162-46BC-A668-6334825C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281-2EC8-44C8-BF04-F71C564A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6BC-93D5-4F47-919F-6B65AD5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1BA-13B1-4367-BE50-2765D3AA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1B6-E6BC-4728-9B73-ADD396AC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714-3742-449F-8847-AFC389E7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73A8-1AAA-456B-B5C1-6DF64A34D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o hermana. Yo estoy calmado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4038480"/>
            <a:ext cx="54864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esta bien pero podemos comer arroz y habichuela ahora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4100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.                                                                        Ay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Aysha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yo estoy muy energica. ¿ tu quiére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r a la cuidad?                                             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onde vamos comer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3:53Z</dcterms:created>
  <dc:creator>FriscoISD</dc:creator>
  <dc:description/>
  <dc:language>en-US</dc:language>
  <cp:lastModifiedBy>User</cp:lastModifiedBy>
  <dcterms:modified xsi:type="dcterms:W3CDTF">2012-12-04T14:58:26Z</dcterms:modified>
  <cp:revision>104</cp:revision>
  <dc:subject/>
  <dc:title>Profile</dc:title>
</cp:coreProperties>
</file>